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FCC-8D3E-4F9A-8B70-9F253288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506-A584-482F-85B6-05BA6D7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FAE-6F2B-4A6C-9329-CBCB73F6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4D4-1AE7-4873-869F-BB3340E4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B79-BB57-4B41-848A-D0B916A5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6F0-CDA9-49B4-8A56-F87E96B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FC8-0DA2-40CD-A6B9-4DAD7BD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EFC-8981-4587-B44A-C622E07E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18F-809E-4AFA-BD5C-72597246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7DB-4DBB-4533-B454-E1789492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D95-490D-420A-BBED-16DFF58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3FC-7D30-4327-A3CB-04393F3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BC2-A8C2-40C6-87DA-25D3062F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ohio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bensguide.gpo.gov/3-5/state/ohio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1109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stcardsfrom.com/t1/99111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62485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>
                        <a:alpha val="9137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Oh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>
                      <a:alpha val="9137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18148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4038480" cy="182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6520" y="640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2920" y="1828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10280" y="2209680"/>
            <a:ext cx="2133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h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ong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10/7/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Colum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1,353,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: March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03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With God, all things a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Buckey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Scarlet 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Beautiful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683080" cy="28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647712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Ohio: Map and State Flag"/>
          <p:cNvPicPr/>
          <p:nvPr/>
        </p:nvPicPr>
        <p:blipFill>
          <a:blip r:embed="rId1"/>
          <a:srcRect l="0" t="46485" r="0" b="0"/>
          <a:stretch/>
        </p:blipFill>
        <p:spPr>
          <a:xfrm>
            <a:off x="5410080" y="609480"/>
            <a:ext cx="29545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4647960" cy="28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472428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Quick Facts Ohi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9/22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ohi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828800"/>
            <a:ext cx="137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h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An Iroquoian name meaning “beautiful ri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Facts: very competitive football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io is one of the nation’s industrial leaders, ranking third in the value in manufacture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Professional Hall of Fame is in Canton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3, the Wright brothers developed a practical aircraft in D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 and Roll Hall of fame and museum is located in Cleveland, O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7320" y="66135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 Union Train Terminal"/>
          <p:cNvPicPr/>
          <p:nvPr/>
        </p:nvPicPr>
        <p:blipFill>
          <a:blip r:embed="rId1"/>
          <a:stretch/>
        </p:blipFill>
        <p:spPr>
          <a:xfrm>
            <a:off x="0" y="0"/>
            <a:ext cx="8686800" cy="561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586728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’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ion Terminal Cincinnati Ohi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0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 Terminal is a place that I would definitely want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5943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638680"/>
            <a:ext cx="7010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’s Fr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olden Lamb Inn Lebanon OH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ostcardsfrom.com/t1/9911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ll images Copyright © 1997 - 2000 WriteLine. All Rights Reserved. Golden Lamb Inn"/>
          <p:cNvPicPr/>
          <p:nvPr/>
        </p:nvPicPr>
        <p:blipFill>
          <a:blip r:embed="rId2"/>
          <a:stretch/>
        </p:blipFill>
        <p:spPr>
          <a:xfrm>
            <a:off x="228600" y="609480"/>
            <a:ext cx="8534520" cy="495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8680" y="106668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lden Lamb Inn is the hotel I would stay in if I visited Oh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5Z</dcterms:created>
  <dc:creator>install</dc:creator>
  <dc:description/>
  <dc:language>en-US</dc:language>
  <cp:lastModifiedBy>install</cp:lastModifiedBy>
  <dcterms:modified xsi:type="dcterms:W3CDTF">2010-10-14T13:19:44Z</dcterms:modified>
  <cp:revision>10</cp:revision>
  <dc:subject/>
  <dc:title>Slide 1</dc:title>
</cp:coreProperties>
</file>